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C48-1684-43F2-B323-A4EE0860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03F-6FCD-499A-A05A-B63EA395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E58-69CE-4C64-A231-105FEE25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CEB-0040-46E9-AC1F-EA59D1D6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EAE-12C9-4285-9C3E-7BE945FC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0FC-777D-4BC2-AC7B-813ACC5A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5A6-4F58-4573-B3B3-4CA09BA3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3E7-6871-499C-8B36-26A6F875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7FF-9C22-4130-9408-73ED6F08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C1B-9C9F-4A20-8088-69D52127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497-C23D-49BF-BCFA-4AAA3B8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18C-03E2-4EC5-865D-DD265CF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EC4D-407A-4F12-99A1-B9DD1618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 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9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tu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(1-4) p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ustar (to please /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to like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b conveys the mea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its true meaning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p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way of saying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like base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  is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seball pleases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el béis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me gusta mucho el béis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n los deportes en gen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, me gus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es baseball please you?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DO YOU LIKE BASE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191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Yes it pleases me very much.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 I LIKE IT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876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sports in general please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DO YOU GENERALLY LIKE SP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943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Yes, they please me.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, I LI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ust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ften used with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ell what you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T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n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Si. No m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T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895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you </a:t>
            </a:r>
            <a:r>
              <a:rPr b="0" i="1" lang="es-ES_tradnl" sz="2400" spc="-1" strike="noStrike">
                <a:solidFill>
                  <a:srgbClr val="008000"/>
                </a:solidFill>
                <a:latin typeface="Arial"/>
              </a:rPr>
              <a:t>like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to win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. I don’t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like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to lose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Si, (No)  </a:t>
            </a:r>
            <a:r>
              <a:rPr b="0" i="1" lang="es-ES_tradnl" sz="2400" spc="-1" strike="noStrike">
                <a:solidFill>
                  <a:srgbClr val="008000"/>
                </a:solidFill>
                <a:latin typeface="Arial"/>
              </a:rPr>
              <a:t>me gusta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comer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57800" y="1447920"/>
            <a:ext cx="1905120" cy="1465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57200" y="3743280"/>
            <a:ext cx="1676520" cy="1590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315200" y="91440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743200" y="3833640"/>
            <a:ext cx="1511280" cy="165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4749840" y="3886200"/>
            <a:ext cx="168912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781680" y="3962520"/>
            <a:ext cx="2028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orr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895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apatos 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(de vest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048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apatos de t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rb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lce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mis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5486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antalones cor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m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-4) p.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-7) p.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-9) p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-6) p.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2210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1055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4:32:32Z</dcterms:created>
  <dc:creator>Helen Zumaeta</dc:creator>
  <dc:description/>
  <dc:language>en-US</dc:language>
  <cp:lastModifiedBy>Helen Zumaeta</cp:lastModifiedBy>
  <dcterms:modified xsi:type="dcterms:W3CDTF">2012-10-10T02:53:38Z</dcterms:modified>
  <cp:revision>13</cp:revision>
  <dc:subject/>
  <dc:title>Me llamo __________   Clase 8 IM La fecha es el 21 de enero del 2010</dc:title>
</cp:coreProperties>
</file>